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2151-FE8F-4B03-A3C1-868E83D9B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s of participants and overview of the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the person besid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C20-F0A0-44BF-B56E-0FAE0107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A2C-E97C-4A62-8773-ECFC899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03F-5694-4452-91DB-A8082AAC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A86-F0E3-456D-8D84-8B52F388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214-BFBF-43B4-B72A-BD75C04B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4C9-FD48-4A33-B128-419CCF4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9C6-4E95-4DAB-9409-1C5C76EF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146-1BD7-425E-B84F-F5FFB799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3A4-EFDA-4804-9BBF-BD57003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498-FF1A-424B-8230-A70294B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EE1-7715-4833-958C-0A62F50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148-9A61-45D6-8510-003E2E8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941-C088-4DEC-8BF4-546A1BB59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sources%20for%20the%20ipod/transportation%20-%20vocabulary.wmv" TargetMode="External"/><Relationship Id="rId3" Type="http://schemas.openxmlformats.org/officeDocument/2006/relationships/hyperlink" Target="file:///resources%20for%20the%20ipod/Let%20Me%20Die%20In%20My%20Footsteps%20Cloze%20Test.m4v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mangum@wcpss.net" TargetMode="External"/><Relationship Id="rId3" Type="http://schemas.openxmlformats.org/officeDocument/2006/relationships/hyperlink" Target="mailto:lsavage@wcpss.net" TargetMode="External"/><Relationship Id="rId4" Type="http://schemas.openxmlformats.org/officeDocument/2006/relationships/hyperlink" Target="mailto:ipods4classrooms@wikispaces.co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du.edu/educ/roverbau/bloom/blooms_taxonomy.ht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4286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Pods for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eaching and learning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nect, Communicate and Create</a:t>
            </a:r>
            <a:br>
              <a:rPr sz="4000"/>
            </a:br>
            <a:br>
              <a:rPr sz="60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ncy Mangu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amp; Larry Sav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cember  2008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57913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review listening activities in a saf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22032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Pods can help our ESL students with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8120" y="3047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re are lots of resources on the web for using iPods with our ESL stud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ods4classrooms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en you find resources on the web you must first convert them to the mp4 format so they can be converted onto the iPod.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lso created some of our own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38098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– vocabulary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tory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ocabulary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tasia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oz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ime upfront with the teachers to focus on curriculum ideas to incorporate the iPods on a daily basis and creating alternative assessmen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do not keep any cords, they have to upload and charge at school.  This prevents them from recording music on the iPo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one-to-one computer access for syncing i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rav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communication needed up-front with parents and students about the ownership responsibility for the iPo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d carrying cases for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mangum@wcpss.net</a:t>
            </a: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savage@wcpss.net</a:t>
            </a:r>
            <a:br>
              <a:rPr sz="4000"/>
            </a:br>
            <a:br>
              <a:rPr sz="40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pods4classrooms.wikispaces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iPods in the ESL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nnect</a:t>
            </a:r>
            <a:br>
              <a:rPr sz="54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udents to their learning and motivate 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Cre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igher order thinking skills for our stud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Communicate</a:t>
            </a:r>
            <a:br>
              <a:rPr sz="54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ive students a vo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can iPo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 used in the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280" y="5911920"/>
            <a:ext cx="916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are able to listen and watch lessons that focus on English language acqui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61084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791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listen to and follow along with written text to reinforce writte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220320" cy="600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5791320"/>
            <a:ext cx="734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able to record themselves to work on oral language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5:45:32Z</dcterms:created>
  <dc:creator>nancy_mangum</dc:creator>
  <dc:description/>
  <dc:language>en-US</dc:language>
  <cp:lastModifiedBy>nancy_mangum</cp:lastModifiedBy>
  <dcterms:modified xsi:type="dcterms:W3CDTF">2008-12-06T15:04:16Z</dcterms:modified>
  <cp:revision>13</cp:revision>
  <dc:subject/>
  <dc:title>   iPods for  teaching and learning   Connect, Communicate and Create  Nancy Mangum &amp; Larry Savage December 5, 2008   </dc:title>
</cp:coreProperties>
</file>